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4D249-AD92-4520-870D-1E39104B5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8780E-95F1-4B9A-809D-AADC4C197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0F278-7DC9-4CA8-9497-C0C97C274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3689E-39D0-48FA-AC73-0498C32FC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39069-4BE7-4A12-8953-68EF25B6C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F6EE6-CC35-4D11-BAFE-15C8CF377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1996B-B781-40D4-8A8D-B745143B8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8EA8F-7258-4FB5-AF54-7D685CC27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E51F2-D901-42A2-A763-025EF472D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D3D27-C80E-4CE8-B022-AA6D84A3E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9BB22-BFD0-42B8-86AE-423C33129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529DF-E988-416B-8A96-9D6E983D3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98E6A-E133-45F9-90DE-C61A191F7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66251-AD53-4506-AF26-89F312EEE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23A18-91DA-475A-94DE-197DD3EE6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6CFCD-6701-4D03-8E20-9C8DFD733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6681F-7381-4517-9D1E-342B267BF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7910F-EA30-4D41-8C86-98EFB3275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444D-77FD-470A-90AE-9B348A468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7422D-2C01-42E9-BBC8-833095D4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63FE8-C9D9-4F0C-81A7-720AC6F25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29D4-B319-41FB-A2EF-014ADF7E9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F790-CF96-40C3-9CE4-03F5AD2C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44C6-F969-49EA-880F-FFEF6F0F3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C030-B865-4C3E-90BC-1F4D9651235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4F34-9A72-44C3-BE47-FE0E0FA9F70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entury Gothic"/>
              </a:rPr>
              <a:t>Geography Of The Sahara</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Jared Christensen</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mp;</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hris Ho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entury Gothic"/>
              </a:rPr>
              <a:t>Location:</a:t>
            </a:r>
            <a:endParaRPr b="0" lang="en-US" sz="4400" spc="-1" strike="noStrike">
              <a:solidFill>
                <a:srgbClr val="ffffcc"/>
              </a:solidFill>
              <a:latin typeface="Tahoma"/>
            </a:endParaRPr>
          </a:p>
        </p:txBody>
      </p:sp>
      <p:sp>
        <p:nvSpPr>
          <p:cNvPr id="387" name="PlaceHolder 2"/>
          <p:cNvSpPr>
            <a:spLocks noGrp="1"/>
          </p:cNvSpPr>
          <p:nvPr>
            <p:ph/>
          </p:nvPr>
        </p:nvSpPr>
        <p:spPr>
          <a:xfrm>
            <a:off x="228240" y="5257800"/>
            <a:ext cx="8613720" cy="1752480"/>
          </a:xfrm>
          <a:prstGeom prst="rect">
            <a:avLst/>
          </a:prstGeom>
          <a:noFill/>
          <a:ln w="0">
            <a:noFill/>
          </a:ln>
        </p:spPr>
        <p:txBody>
          <a:bodyPr lIns="90000" rIns="90000" tIns="46800" bIns="46800" anchor="t">
            <a:normAutofit/>
          </a:bodyPr>
          <a:p>
            <a:pPr marL="343080" indent="-343080">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entury Gothic"/>
              </a:rPr>
              <a:t>The Sahara Desert is located in the northern portion of Africa. It covers over 9,000,000 square km, which roughly is 10% of Africa. The Sahara borders the Red Sea which is to the east, the Atlantic to the west, the Mediterranean Sea to the north and to the south the area turns into a semi-arid tropical savannah.</a:t>
            </a:r>
            <a:endParaRPr b="0" lang="en-US" sz="1800" spc="-1" strike="noStrike">
              <a:solidFill>
                <a:srgbClr val="ffffff"/>
              </a:solidFill>
              <a:latin typeface="Tahoma"/>
            </a:endParaRPr>
          </a:p>
        </p:txBody>
      </p:sp>
      <p:pic>
        <p:nvPicPr>
          <p:cNvPr id="388" name="" descr=""/>
          <p:cNvPicPr/>
          <p:nvPr/>
        </p:nvPicPr>
        <p:blipFill>
          <a:blip r:embed="rId1"/>
          <a:stretch/>
        </p:blipFill>
        <p:spPr>
          <a:xfrm>
            <a:off x="1676520" y="1219320"/>
            <a:ext cx="5790960" cy="393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entury Gothic"/>
              </a:rPr>
              <a:t>Volcanoes &amp; Mountains:</a:t>
            </a:r>
            <a:endParaRPr b="0" lang="en-US" sz="4400" spc="-1" strike="noStrike">
              <a:solidFill>
                <a:srgbClr val="ffffcc"/>
              </a:solidFill>
              <a:latin typeface="Tahoma"/>
            </a:endParaRPr>
          </a:p>
        </p:txBody>
      </p:sp>
      <p:sp>
        <p:nvSpPr>
          <p:cNvPr id="390" name="PlaceHolder 2"/>
          <p:cNvSpPr>
            <a:spLocks noGrp="1"/>
          </p:cNvSpPr>
          <p:nvPr>
            <p:ph/>
          </p:nvPr>
        </p:nvSpPr>
        <p:spPr>
          <a:xfrm>
            <a:off x="304560" y="1218960"/>
            <a:ext cx="8613720" cy="160308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In the Sahara there are lots of volcanic mountains. One example is Emi Koussi, a shield volcano that rises to 11,204 ft. This volcano is part of a large mountain rang called the Tibesti Range which is located in Chad.</a:t>
            </a:r>
            <a:endParaRPr b="0" lang="en-US" sz="2000" spc="-1" strike="noStrike">
              <a:solidFill>
                <a:srgbClr val="ffffff"/>
              </a:solidFill>
              <a:latin typeface="Tahoma"/>
            </a:endParaRPr>
          </a:p>
        </p:txBody>
      </p:sp>
      <p:pic>
        <p:nvPicPr>
          <p:cNvPr id="391" name="" descr=""/>
          <p:cNvPicPr/>
          <p:nvPr/>
        </p:nvPicPr>
        <p:blipFill>
          <a:blip r:embed="rId1"/>
          <a:stretch/>
        </p:blipFill>
        <p:spPr>
          <a:xfrm>
            <a:off x="1600200" y="2514600"/>
            <a:ext cx="6019920" cy="40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entury Gothic"/>
              </a:rPr>
              <a:t>Rivers In The Sahara?</a:t>
            </a:r>
            <a:endParaRPr b="0" lang="en-US" sz="4400" spc="-1" strike="noStrike">
              <a:solidFill>
                <a:srgbClr val="ffffcc"/>
              </a:solidFill>
              <a:latin typeface="Tahoma"/>
            </a:endParaRPr>
          </a:p>
        </p:txBody>
      </p:sp>
      <p:sp>
        <p:nvSpPr>
          <p:cNvPr id="393" name="PlaceHolder 2"/>
          <p:cNvSpPr>
            <a:spLocks noGrp="1"/>
          </p:cNvSpPr>
          <p:nvPr>
            <p:ph/>
          </p:nvPr>
        </p:nvSpPr>
        <p:spPr>
          <a:xfrm>
            <a:off x="380520" y="1142640"/>
            <a:ext cx="8232840" cy="1523880"/>
          </a:xfrm>
          <a:prstGeom prst="rect">
            <a:avLst/>
          </a:prstGeom>
          <a:noFill/>
          <a:ln w="0">
            <a:noFill/>
          </a:ln>
        </p:spPr>
        <p:txBody>
          <a:bodyPr lIns="90000" rIns="90000" tIns="46800" bIns="46800" anchor="t">
            <a:normAutofit/>
          </a:bodyPr>
          <a:p>
            <a:pPr marL="343080" indent="-343080">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ost people think that there is absolutely no water in any desert but in the Sahara there is one river and it’s the Nile River which is Africa's biggest river it runs thought the Sahara and in to the Mediterranean Sea. </a:t>
            </a:r>
            <a:endParaRPr b="0" lang="en-US" sz="2000" spc="-1" strike="noStrike">
              <a:solidFill>
                <a:srgbClr val="ffffff"/>
              </a:solidFill>
              <a:latin typeface="Tahoma"/>
            </a:endParaRPr>
          </a:p>
        </p:txBody>
      </p:sp>
      <p:pic>
        <p:nvPicPr>
          <p:cNvPr id="394" name="" descr=""/>
          <p:cNvPicPr/>
          <p:nvPr/>
        </p:nvPicPr>
        <p:blipFill>
          <a:blip r:embed="rId1"/>
          <a:stretch/>
        </p:blipFill>
        <p:spPr>
          <a:xfrm>
            <a:off x="1676520" y="2666880"/>
            <a:ext cx="5905440" cy="39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133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entury Gothic"/>
              </a:rPr>
              <a:t>Thanks For Watching!</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3:15:04Z</dcterms:created>
  <dc:creator>troys</dc:creator>
  <dc:description/>
  <dc:language>en-US</dc:language>
  <cp:lastModifiedBy>troys</cp:lastModifiedBy>
  <dcterms:modified xsi:type="dcterms:W3CDTF">2012-10-30T03:50:25Z</dcterms:modified>
  <cp:revision>2</cp:revision>
  <dc:subject/>
  <dc:title>Geography Of The Sahara</dc:title>
</cp:coreProperties>
</file>